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barney.wav" ContentType="audio/x-wav"/>
  <Override PartName="/ppt/media/RICOCHET.WAV" ContentType="audio/x-wav"/>
  <Override PartName="/ppt/media/image13.png" ContentType="image/png"/>
  <Override PartName="/ppt/media/DRUMROLL.WAV" ContentType="audio/x-wav"/>
  <Override PartName="/ppt/media/image18.wmf" ContentType="image/x-wmf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0D0-5E31-4062-8849-297771C7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460-CA1A-4B62-A48F-054DC46F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33B-21F5-466C-B247-E0A3F771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C5E-8A57-4469-9405-0D09F076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B5D8-9211-4BF1-9FB0-6D0000A8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994F-E2B6-42B1-AA9C-1F9D18E8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9CE8-87D2-43A6-A7CC-35439EFA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B454-B843-406A-837C-5AC96278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66F0-C841-40FA-ABDD-13BC7245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DFC4-A08F-4962-9CB8-19093B07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81D7-598B-4CCB-8EA8-E5B2ABC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052-4C55-4010-B10D-47D96DC2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2349-BCD3-43C0-BCDF-4F75EB19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8B72-D319-4DE2-9B16-363C40C2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84BB-AE26-4091-89EC-0D8311D8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3CF1-056E-4423-9B42-7531DA85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E781-1757-4B12-9B6A-E1125DD3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281-070E-4039-8D27-85789C00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523-0BCB-4A6E-901C-D87C924B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174-8EA0-4840-9E42-6A0CBFD1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739-B62C-4BD6-BD8A-1F7A1425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CEA-8F3C-4222-9A73-17801B37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4B0-31B8-4253-A608-4AB6053C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8BD-534C-40E9-BB9D-DEE79BFB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Freeform 3"/>
            <p:cNvSpPr/>
            <p:nvPr/>
          </p:nvSpPr>
          <p:spPr>
            <a:xfrm>
              <a:off x="111240" y="5702400"/>
              <a:ext cx="8997840" cy="928440"/>
            </a:xfrm>
            <a:prstGeom prst="pie">
              <a:avLst/>
            </a:pr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12600" y="5743440"/>
              <a:ext cx="9175680" cy="113040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F80C-D6A0-4A58-B267-412388078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Freeform 3"/>
            <p:cNvSpPr/>
            <p:nvPr/>
          </p:nvSpPr>
          <p:spPr>
            <a:xfrm>
              <a:off x="146160" y="3416400"/>
              <a:ext cx="8993160" cy="3436920"/>
            </a:xfrm>
            <a:prstGeom prst="pie">
              <a:avLst/>
            </a:pr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3427560"/>
              <a:ext cx="9167760" cy="34462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42A2-39BD-4739-8031-4D752247C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audio" Target="../media/barney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hyperlink" Target="file:///tmp/home/.config/libreoffice/4/user/gallery/APPLAUSE.WAV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APPLAUSE.WAV" TargetMode="External"/><Relationship Id="rId3" Type="http://schemas.openxmlformats.org/officeDocument/2006/relationships/image" Target="../media/image14.png"/><Relationship Id="rId4" Type="http://schemas.openxmlformats.org/officeDocument/2006/relationships/hyperlink" Target="file:///tmp/home/.config/libreoffice/4/user/gallery/buzzer.wav" TargetMode="Externa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buzzer.wav" TargetMode="External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APPLAUSE.WAV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audio" Target="../media/DRUMROLL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" Target="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3"/>
          <p:cNvSpPr txBox="1"/>
          <p:nvPr/>
        </p:nvSpPr>
        <p:spPr>
          <a:xfrm>
            <a:off x="914400" y="533520"/>
            <a:ext cx="72388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t's A Mystery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38080" y="3276720"/>
            <a:ext cx="7772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rea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ncy Langston and Joanne Whit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detectiv2"/>
          <p:cNvPicPr/>
          <p:nvPr/>
        </p:nvPicPr>
        <p:blipFill>
          <a:blip r:embed="rId3"/>
          <a:stretch/>
        </p:blipFill>
        <p:spPr>
          <a:xfrm>
            <a:off x="35812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2895480" y="2666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3300"/>
                </a:solidFill>
                <a:uFillTx/>
                <a:latin typeface="Times New Roman"/>
              </a:rPr>
              <a:t>Drawing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rn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838080" y="7621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1" name="AutoShape 3">
            <a:hlinkClick r:id="rId2" action="ppaction://hlinksldjump"/>
          </p:cNvPr>
          <p:cNvSpPr/>
          <p:nvPr/>
        </p:nvSpPr>
        <p:spPr>
          <a:xfrm>
            <a:off x="6553080" y="441972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19500" y="3794"/>
                </a:moveTo>
                <a:lnTo>
                  <a:pt x="33513" y="10800"/>
                </a:lnTo>
                <a:lnTo>
                  <a:pt x="19500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447920" y="609480"/>
            <a:ext cx="624816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OOPS!  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AutoShape 3">
            <a:hlinkClick r:id="rId2" action="ppaction://hlinksldjump"/>
          </p:cNvPr>
          <p:cNvSpPr/>
          <p:nvPr/>
        </p:nvSpPr>
        <p:spPr>
          <a:xfrm>
            <a:off x="6858000" y="472428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17" h="21600">
                <a:moveTo>
                  <a:pt x="28452" y="10800"/>
                </a:moveTo>
                <a:lnTo>
                  <a:pt x="42465" y="3794"/>
                </a:lnTo>
                <a:lnTo>
                  <a:pt x="42465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57200" y="533520"/>
            <a:ext cx="8153280" cy="36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need me before you can mail a letter. Paste me on an envelop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mbox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219320" y="3200400"/>
            <a:ext cx="228600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1flagb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3276720"/>
            <a:ext cx="3062520" cy="198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838080" y="7621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934320" y="4572000"/>
            <a:ext cx="1981080" cy="762120"/>
          </a:xfrm>
          <a:custGeom>
            <a:avLst/>
            <a:gdLst>
              <a:gd name="textAreaLeft" fmla="*/ 49320 w 1981080"/>
              <a:gd name="textAreaRight" fmla="*/ 1931760 w 1981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1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1" y="20200"/>
                </a:lnTo>
                <a:lnTo>
                  <a:pt x="54731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1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31" h="21600">
                <a:moveTo>
                  <a:pt x="21059" y="3794"/>
                </a:moveTo>
                <a:lnTo>
                  <a:pt x="35072" y="10800"/>
                </a:lnTo>
                <a:lnTo>
                  <a:pt x="21059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447920" y="609480"/>
            <a:ext cx="624816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OOPS!  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6858000" y="47242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79" h="21600">
                <a:moveTo>
                  <a:pt x="20583" y="10800"/>
                </a:moveTo>
                <a:lnTo>
                  <a:pt x="34596" y="3794"/>
                </a:lnTo>
                <a:lnTo>
                  <a:pt x="34596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143000" y="458640"/>
            <a:ext cx="655308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whi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eed me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rink me when you are thirs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milk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42900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oj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838080" y="7621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6172200" y="4800600"/>
            <a:ext cx="2514600" cy="685800"/>
          </a:xfrm>
          <a:custGeom>
            <a:avLst/>
            <a:gdLst>
              <a:gd name="textAreaLeft" fmla="*/ 44280 w 2514600"/>
              <a:gd name="textAreaRight" fmla="*/ 2470320 w 25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70" h="21600">
                <a:moveTo>
                  <a:pt x="32578" y="3794"/>
                </a:moveTo>
                <a:lnTo>
                  <a:pt x="46591" y="10800"/>
                </a:lnTo>
                <a:lnTo>
                  <a:pt x="32578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1447920" y="609480"/>
            <a:ext cx="624816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OOPS!  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400800" y="4724280"/>
            <a:ext cx="2286000" cy="76212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4769" h="21600">
                <a:moveTo>
                  <a:pt x="0" y="0"/>
                </a:moveTo>
                <a:lnTo>
                  <a:pt x="64769" y="0"/>
                </a:lnTo>
                <a:lnTo>
                  <a:pt x="64769" y="21600"/>
                </a:lnTo>
                <a:lnTo>
                  <a:pt x="0" y="21600"/>
                </a:lnTo>
                <a:close/>
              </a:path>
              <a:path fill="lightenLess" w="64769" h="21600">
                <a:moveTo>
                  <a:pt x="0" y="0"/>
                </a:moveTo>
                <a:lnTo>
                  <a:pt x="64769" y="0"/>
                </a:lnTo>
                <a:lnTo>
                  <a:pt x="63369" y="1400"/>
                </a:lnTo>
                <a:lnTo>
                  <a:pt x="1400" y="1400"/>
                </a:lnTo>
                <a:close/>
              </a:path>
              <a:path fill="darken" w="64769" h="21600">
                <a:moveTo>
                  <a:pt x="64769" y="0"/>
                </a:moveTo>
                <a:lnTo>
                  <a:pt x="64769" y="21600"/>
                </a:lnTo>
                <a:lnTo>
                  <a:pt x="63369" y="20200"/>
                </a:lnTo>
                <a:lnTo>
                  <a:pt x="63369" y="1400"/>
                </a:lnTo>
                <a:close/>
              </a:path>
              <a:path fill="darkenLess" w="64769" h="21600">
                <a:moveTo>
                  <a:pt x="64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9" y="20200"/>
                </a:lnTo>
                <a:close/>
              </a:path>
              <a:path fill="lighten" w="64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9" h="21600">
                <a:moveTo>
                  <a:pt x="25378" y="10800"/>
                </a:moveTo>
                <a:lnTo>
                  <a:pt x="39391" y="3794"/>
                </a:lnTo>
                <a:lnTo>
                  <a:pt x="39391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533520"/>
            <a:ext cx="815328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ok like a bab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give me a na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like to play with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bear0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3429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babyran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3505320"/>
            <a:ext cx="2362320" cy="180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838080" y="7621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91320" y="4572000"/>
            <a:ext cx="2819160" cy="762120"/>
          </a:xfrm>
          <a:custGeom>
            <a:avLst/>
            <a:gdLst>
              <a:gd name="textAreaLeft" fmla="*/ 49320 w 2819160"/>
              <a:gd name="textAreaRight" fmla="*/ 2769840 w 28191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9873" h="21600">
                <a:moveTo>
                  <a:pt x="0" y="0"/>
                </a:moveTo>
                <a:lnTo>
                  <a:pt x="79873" y="0"/>
                </a:lnTo>
                <a:lnTo>
                  <a:pt x="79873" y="21600"/>
                </a:lnTo>
                <a:lnTo>
                  <a:pt x="0" y="21600"/>
                </a:lnTo>
                <a:close/>
              </a:path>
              <a:path fill="lightenLess" w="79873" h="21600">
                <a:moveTo>
                  <a:pt x="0" y="0"/>
                </a:moveTo>
                <a:lnTo>
                  <a:pt x="79873" y="0"/>
                </a:lnTo>
                <a:lnTo>
                  <a:pt x="78473" y="1400"/>
                </a:lnTo>
                <a:lnTo>
                  <a:pt x="1400" y="1400"/>
                </a:lnTo>
                <a:close/>
              </a:path>
              <a:path fill="darken" w="79873" h="21600">
                <a:moveTo>
                  <a:pt x="79873" y="0"/>
                </a:moveTo>
                <a:lnTo>
                  <a:pt x="79873" y="21600"/>
                </a:lnTo>
                <a:lnTo>
                  <a:pt x="78473" y="20200"/>
                </a:lnTo>
                <a:lnTo>
                  <a:pt x="78473" y="1400"/>
                </a:lnTo>
                <a:close/>
              </a:path>
              <a:path fill="darkenLess" w="79873" h="21600">
                <a:moveTo>
                  <a:pt x="79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73" y="20200"/>
                </a:lnTo>
                <a:close/>
              </a:path>
              <a:path fill="lighten" w="79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873" h="21600">
                <a:moveTo>
                  <a:pt x="32930" y="3794"/>
                </a:moveTo>
                <a:lnTo>
                  <a:pt x="46943" y="10800"/>
                </a:lnTo>
                <a:lnTo>
                  <a:pt x="32930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533520" y="457200"/>
            <a:ext cx="7924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the clues.  Click on the correct pic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447920" y="609480"/>
            <a:ext cx="624816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OOPS!  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6172200" y="4343400"/>
            <a:ext cx="2590920" cy="990720"/>
          </a:xfrm>
          <a:custGeom>
            <a:avLst/>
            <a:gdLst>
              <a:gd name="textAreaLeft" fmla="*/ 64080 w 2590920"/>
              <a:gd name="textAreaRight" fmla="*/ 2526840 w 2590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6475" h="21600">
                <a:moveTo>
                  <a:pt x="0" y="0"/>
                </a:moveTo>
                <a:lnTo>
                  <a:pt x="56475" y="0"/>
                </a:lnTo>
                <a:lnTo>
                  <a:pt x="56475" y="21600"/>
                </a:lnTo>
                <a:lnTo>
                  <a:pt x="0" y="21600"/>
                </a:lnTo>
                <a:close/>
              </a:path>
              <a:path fill="lightenLess" w="56475" h="21600">
                <a:moveTo>
                  <a:pt x="0" y="0"/>
                </a:moveTo>
                <a:lnTo>
                  <a:pt x="56475" y="0"/>
                </a:lnTo>
                <a:lnTo>
                  <a:pt x="55075" y="1400"/>
                </a:lnTo>
                <a:lnTo>
                  <a:pt x="1400" y="1400"/>
                </a:lnTo>
                <a:close/>
              </a:path>
              <a:path fill="darken" w="56475" h="21600">
                <a:moveTo>
                  <a:pt x="56475" y="0"/>
                </a:moveTo>
                <a:lnTo>
                  <a:pt x="56475" y="21600"/>
                </a:lnTo>
                <a:lnTo>
                  <a:pt x="55075" y="20200"/>
                </a:lnTo>
                <a:lnTo>
                  <a:pt x="55075" y="1400"/>
                </a:lnTo>
                <a:close/>
              </a:path>
              <a:path fill="darkenLess" w="56475" h="21600">
                <a:moveTo>
                  <a:pt x="56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5" y="20200"/>
                </a:lnTo>
                <a:close/>
              </a:path>
              <a:path fill="lighten" w="56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5" h="21600">
                <a:moveTo>
                  <a:pt x="21231" y="10800"/>
                </a:moveTo>
                <a:lnTo>
                  <a:pt x="35244" y="3794"/>
                </a:lnTo>
                <a:lnTo>
                  <a:pt x="35244" y="17806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5410440" cy="4419720"/>
          </a:xfrm>
          <a:prstGeom prst="rect">
            <a:avLst/>
          </a:prstGeom>
          <a:ln w="0">
            <a:noFill/>
          </a:ln>
        </p:spPr>
      </p:pic>
      <p:sp>
        <p:nvSpPr>
          <p:cNvPr id="138" name="WordArt 8"/>
          <p:cNvSpPr txBox="1"/>
          <p:nvPr/>
        </p:nvSpPr>
        <p:spPr>
          <a:xfrm>
            <a:off x="2590920" y="1447920"/>
            <a:ext cx="3352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gratul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2971800" y="3276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276720" y="28954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ou are now a member of the Detective Hall of Fam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2" descr="detectiv2"/>
          <p:cNvPicPr/>
          <p:nvPr/>
        </p:nvPicPr>
        <p:blipFill>
          <a:blip r:embed="rId3"/>
          <a:stretch/>
        </p:blipFill>
        <p:spPr>
          <a:xfrm>
            <a:off x="3581280" y="487692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puppy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219320" y="4419720"/>
            <a:ext cx="1714320" cy="180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babypg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72200" y="4724280"/>
            <a:ext cx="2162160" cy="1482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609480" y="533520"/>
            <a:ext cx="8153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sleep in a cri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drink from a bott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cannot walk or tal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am 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838080" y="7621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7" name="AutoShape 4">
            <a:hlinkClick r:id="rId2" action="ppaction://hlinksldjump"/>
          </p:cNvPr>
          <p:cNvSpPr/>
          <p:nvPr/>
        </p:nvSpPr>
        <p:spPr>
          <a:xfrm>
            <a:off x="7391520" y="4648320"/>
            <a:ext cx="1447560" cy="76176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37" h="21600">
                <a:moveTo>
                  <a:pt x="0" y="0"/>
                </a:moveTo>
                <a:lnTo>
                  <a:pt x="41037" y="0"/>
                </a:lnTo>
                <a:lnTo>
                  <a:pt x="41037" y="21600"/>
                </a:lnTo>
                <a:lnTo>
                  <a:pt x="0" y="21600"/>
                </a:lnTo>
                <a:close/>
              </a:path>
              <a:path fill="lightenLess" w="41037" h="21600">
                <a:moveTo>
                  <a:pt x="0" y="0"/>
                </a:moveTo>
                <a:lnTo>
                  <a:pt x="41037" y="0"/>
                </a:lnTo>
                <a:lnTo>
                  <a:pt x="39637" y="1400"/>
                </a:lnTo>
                <a:lnTo>
                  <a:pt x="1400" y="1400"/>
                </a:lnTo>
                <a:close/>
              </a:path>
              <a:path fill="darken" w="41037" h="21600">
                <a:moveTo>
                  <a:pt x="41037" y="0"/>
                </a:moveTo>
                <a:lnTo>
                  <a:pt x="41037" y="21600"/>
                </a:lnTo>
                <a:lnTo>
                  <a:pt x="39637" y="20200"/>
                </a:lnTo>
                <a:lnTo>
                  <a:pt x="39637" y="1400"/>
                </a:lnTo>
                <a:close/>
              </a:path>
              <a:path fill="darkenLess" w="41037" h="21600">
                <a:moveTo>
                  <a:pt x="41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37" y="20200"/>
                </a:lnTo>
                <a:close/>
              </a:path>
              <a:path fill="lighten" w="41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37" h="21600">
                <a:moveTo>
                  <a:pt x="13512" y="3794"/>
                </a:moveTo>
                <a:lnTo>
                  <a:pt x="27525" y="10800"/>
                </a:lnTo>
                <a:lnTo>
                  <a:pt x="13512" y="17806"/>
                </a:lnTo>
                <a:close/>
              </a:path>
            </a:pathLst>
          </a:cu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981080" y="609480"/>
            <a:ext cx="624852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OOPS!  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AutoShape 3">
            <a:hlinkClick r:id="rId2" action="ppaction://hlinksldjump"/>
          </p:cNvPr>
          <p:cNvSpPr/>
          <p:nvPr/>
        </p:nvSpPr>
        <p:spPr>
          <a:xfrm>
            <a:off x="304920" y="449568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2" h="21600">
                <a:moveTo>
                  <a:pt x="5750" y="10800"/>
                </a:moveTo>
                <a:lnTo>
                  <a:pt x="19763" y="3794"/>
                </a:lnTo>
                <a:lnTo>
                  <a:pt x="19763" y="17806"/>
                </a:lnTo>
                <a:close/>
              </a:path>
            </a:pathLst>
          </a:cu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838080" y="304920"/>
            <a:ext cx="7543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t me on your fe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will keep you warm and d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ar me when it rain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36-324cu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90720" y="3505320"/>
            <a:ext cx="1778040" cy="191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6Au17jHWlX3kiJGUFh1nPlvT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19920" y="3657600"/>
            <a:ext cx="1446120" cy="167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838080" y="7621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AutoShape 3">
            <a:hlinkClick r:id="rId2" action="ppaction://hlinksldjump"/>
          </p:cNvPr>
          <p:cNvSpPr/>
          <p:nvPr/>
        </p:nvSpPr>
        <p:spPr>
          <a:xfrm>
            <a:off x="6477120" y="4572000"/>
            <a:ext cx="2286000" cy="76212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4769" h="21600">
                <a:moveTo>
                  <a:pt x="0" y="0"/>
                </a:moveTo>
                <a:lnTo>
                  <a:pt x="64769" y="0"/>
                </a:lnTo>
                <a:lnTo>
                  <a:pt x="64769" y="21600"/>
                </a:lnTo>
                <a:lnTo>
                  <a:pt x="0" y="21600"/>
                </a:lnTo>
                <a:close/>
              </a:path>
              <a:path fill="lightenLess" w="64769" h="21600">
                <a:moveTo>
                  <a:pt x="0" y="0"/>
                </a:moveTo>
                <a:lnTo>
                  <a:pt x="64769" y="0"/>
                </a:lnTo>
                <a:lnTo>
                  <a:pt x="63369" y="1400"/>
                </a:lnTo>
                <a:lnTo>
                  <a:pt x="1400" y="1400"/>
                </a:lnTo>
                <a:close/>
              </a:path>
              <a:path fill="darken" w="64769" h="21600">
                <a:moveTo>
                  <a:pt x="64769" y="0"/>
                </a:moveTo>
                <a:lnTo>
                  <a:pt x="64769" y="21600"/>
                </a:lnTo>
                <a:lnTo>
                  <a:pt x="63369" y="20200"/>
                </a:lnTo>
                <a:lnTo>
                  <a:pt x="63369" y="1400"/>
                </a:lnTo>
                <a:close/>
              </a:path>
              <a:path fill="darkenLess" w="64769" h="21600">
                <a:moveTo>
                  <a:pt x="64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9" y="20200"/>
                </a:lnTo>
                <a:close/>
              </a:path>
              <a:path fill="lighten" w="64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9" h="21600">
                <a:moveTo>
                  <a:pt x="25378" y="3794"/>
                </a:moveTo>
                <a:lnTo>
                  <a:pt x="39391" y="10800"/>
                </a:lnTo>
                <a:lnTo>
                  <a:pt x="25378" y="17806"/>
                </a:lnTo>
                <a:close/>
              </a:path>
            </a:pathLst>
          </a:cu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447920" y="609480"/>
            <a:ext cx="624816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OOPS!  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AutoShape 3">
            <a:hlinkClick r:id="rId2" action="ppaction://hlinksldjump"/>
          </p:cNvPr>
          <p:cNvSpPr/>
          <p:nvPr/>
        </p:nvSpPr>
        <p:spPr>
          <a:xfrm>
            <a:off x="7315200" y="4495680"/>
            <a:ext cx="1523880" cy="838440"/>
          </a:xfrm>
          <a:custGeom>
            <a:avLst/>
            <a:gdLst>
              <a:gd name="textAreaLeft" fmla="*/ 54360 w 1523880"/>
              <a:gd name="textAreaRight" fmla="*/ 1469520 w 15238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9251" h="21600">
                <a:moveTo>
                  <a:pt x="0" y="0"/>
                </a:moveTo>
                <a:lnTo>
                  <a:pt x="39251" y="0"/>
                </a:lnTo>
                <a:lnTo>
                  <a:pt x="39251" y="21600"/>
                </a:lnTo>
                <a:lnTo>
                  <a:pt x="0" y="21600"/>
                </a:lnTo>
                <a:close/>
              </a:path>
              <a:path fill="lightenLess" w="39251" h="21600">
                <a:moveTo>
                  <a:pt x="0" y="0"/>
                </a:moveTo>
                <a:lnTo>
                  <a:pt x="39251" y="0"/>
                </a:lnTo>
                <a:lnTo>
                  <a:pt x="37851" y="1400"/>
                </a:lnTo>
                <a:lnTo>
                  <a:pt x="1400" y="1400"/>
                </a:lnTo>
                <a:close/>
              </a:path>
              <a:path fill="darken" w="39251" h="21600">
                <a:moveTo>
                  <a:pt x="39251" y="0"/>
                </a:moveTo>
                <a:lnTo>
                  <a:pt x="39251" y="21600"/>
                </a:lnTo>
                <a:lnTo>
                  <a:pt x="37851" y="20200"/>
                </a:lnTo>
                <a:lnTo>
                  <a:pt x="37851" y="1400"/>
                </a:lnTo>
                <a:close/>
              </a:path>
              <a:path fill="darkenLess" w="39251" h="21600">
                <a:moveTo>
                  <a:pt x="39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51" y="20200"/>
                </a:lnTo>
                <a:close/>
              </a:path>
              <a:path fill="lighten" w="39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51" h="21600">
                <a:moveTo>
                  <a:pt x="12619" y="10800"/>
                </a:moveTo>
                <a:lnTo>
                  <a:pt x="26632" y="3794"/>
                </a:lnTo>
                <a:lnTo>
                  <a:pt x="26632" y="17806"/>
                </a:lnTo>
                <a:close/>
              </a:path>
            </a:pathLst>
          </a:cu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066680" y="228600"/>
            <a:ext cx="678204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grow on an 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 me in hot 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puff up and taste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fries0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3124080"/>
            <a:ext cx="175284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pcor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71600" y="3200400"/>
            <a:ext cx="163512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1T17:25:34Z</dcterms:created>
  <dc:creator>Pre-Installed-User</dc:creator>
  <dc:description/>
  <dc:language>en-US</dc:language>
  <cp:lastModifiedBy>teacher</cp:lastModifiedBy>
  <dcterms:modified xsi:type="dcterms:W3CDTF">2010-10-14T20:12:05Z</dcterms:modified>
  <cp:revision>13</cp:revision>
  <dc:subject/>
  <dc:title>No Slide Title</dc:title>
</cp:coreProperties>
</file>